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E9A-0EF9-41D2-93A4-439BADBE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AD0-140F-4614-BBFE-5BCD6F92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9BB-80A3-4EAE-9001-B5AA19E5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69D-052A-4218-A30E-7EA75A94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F70-75AD-4374-8BC7-ACAB82B5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500-A325-44AD-8643-BA8D618F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EE0-7E12-48F5-A272-334FA663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60A-CB89-42D1-96F3-2A38A982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2CB-53E8-44D0-81E4-41B56FB9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A36-530D-4EF8-9D2F-C885A266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54E-17AB-4E6D-ACF6-CB3E1E00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670-99BA-4E48-A8D9-39163EEC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2F26-7B8E-4C5C-AA66-BA427DD65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petta la be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ré Bour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4 Houpetta la bella.m4a" descr=""/>
          <p:cNvPicPr/>
          <p:nvPr/>
        </p:nvPicPr>
        <p:blipFill>
          <a:blip r:embed="rId1"/>
          <a:stretch/>
        </p:blipFill>
        <p:spPr>
          <a:xfrm>
            <a:off x="449568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914400" y="6858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' s'app'lait Houpett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914400" y="6858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' s'app'lait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914400" y="68580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' s'app'lait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914400" y="685800"/>
            <a:ext cx="7924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' s'app'lait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914400" y="685800"/>
            <a:ext cx="7924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' s'app'lait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914400" y="685800"/>
            <a:ext cx="7924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' s'app'lait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, la mia bel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914400" y="685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ân' elle allait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914400" y="6858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ân' elle allait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914400" y="68580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ân' elle allait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14400" y="68580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ân' elle allait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914400" y="6858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es montagnes en maraud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919800" y="44956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arau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914400" y="68580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ân' elle allait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914400" y="685800"/>
            <a:ext cx="5715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ân' elle allait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, la mia bel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914400" y="6858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914400" y="685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914400" y="6858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914400" y="6858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 coucou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914400" y="6858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d le petit âne faisait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914400" y="6858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d le petit âne faisait, hi! ha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914400" y="68580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d le petit âne faisait, hi! han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914400" y="68580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d le petit âne faisait, hi! han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même chos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914400" y="6858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es montagnes en maraud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fille du contrebandier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919800" y="449568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arau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smugg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914400" y="6858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cou-ci, coucou-là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914400" y="685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cou-ci, coucou-là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914400" y="6858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cou-ci, coucou-là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'écho mêlait tout ç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914400" y="6858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cou-ci, coucou-là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'écho mêlait tout ç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la belle Houpett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914400" y="68580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cou-ci, coucou-là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'écho mêlait tout ç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la belle Houpetta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h! ah! ah! ......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914400" y="68580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un beau jour elle se fit prendr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921960" y="5646600"/>
            <a:ext cx="45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aught  se faire (to bec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914400" y="68580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un beau jour elle se fit prendr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 un douanier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ien beau gar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921960" y="5646600"/>
            <a:ext cx="45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aught  se faire (to bec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s ag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14400" y="6858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un beau jour elle se fit prendr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 un douanier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ien beau gars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i lui a pris sans plus attendr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921960" y="5646600"/>
            <a:ext cx="45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aught  se faire (to bec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s ag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914400" y="685800"/>
            <a:ext cx="7696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un beau jour elle se fit prendr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 un douanier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ien beau gars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i lui a pris sans plus attendre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ut ce qu'elle avait comme tabac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921960" y="5646600"/>
            <a:ext cx="45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aught  se faire (to bec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s ag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14400" y="6858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 pleurant la contrebandiè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914400" y="68580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es montagnes en maraud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fille du contrebandier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p'tit ân'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ortait en fraude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919800" y="4495680"/>
            <a:ext cx="173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arau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smugg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donk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in disgu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914400" y="6858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 pleurant la contrebandiè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ui dit : "ne me fais pas de misères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914400" y="6858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914400" y="6858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914400" y="6858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m'appelle Houpett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914400" y="6858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m'appelle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914400" y="6858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m'appelle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914400" y="685800"/>
            <a:ext cx="685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m'appelle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914400" y="685800"/>
            <a:ext cx="685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m'appelle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914400" y="685800"/>
            <a:ext cx="6858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m'appelle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, la mia bel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940680" y="685800"/>
            <a:ext cx="605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ne veux pas qu'tu touch'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à mon paquet d' tabac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924480" y="601488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 snuff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914400" y="68580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es montagnes en maraud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fille du contrebandier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p'tit ân'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ortait en fraude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u tabac dans son petit panier.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919800" y="4495680"/>
            <a:ext cx="173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arau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smugg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donk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in disgu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bas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940680" y="685800"/>
            <a:ext cx="605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ne veux pas qu'tu touch'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à mon paquet d' tabac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t'en prie, je n'veux pa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940680" y="685800"/>
            <a:ext cx="605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ne veux pas qu'tu touch'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à mon paquet d' tabac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t'en prie, je n'veux pa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 n'est pas, ce n'est p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940680" y="685800"/>
            <a:ext cx="605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ne veux pas qu'tu touch'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à mon paquet d' tabac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t'en prie, je n'veux pa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 n'est pas, ce n'est p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 n'est pas, ce n'est p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940680" y="685800"/>
            <a:ext cx="605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ne veux pas qu'tu touch'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à mon paquet d' tabac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t'en prie, je n'veux pa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 n'est pas, ce n'est p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 n'est pas, ce n'est p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 n'est pas ta tabatière.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924480" y="601488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 snuff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914400" y="6858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le douanier lui, il a d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914400" y="6858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le douanier lui, il a 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"je le dois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914400" y="6858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le douanier lui, il a 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"je le dois"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tout de suite l'écho répond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914400" y="685800"/>
            <a:ext cx="685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le douanier lui, il a 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"je le dois"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tout de suite l'écho répond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en parce qu'il n'avait pas crié assez f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914400" y="6858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ors forcément elle lui a d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927000" y="60148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moquer d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joke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914400" y="6858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ors forcément elle lui a 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"ben, le v'la"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7000" y="60148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moquer d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joke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14400" y="6858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e chantait la ritournell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925560" y="5722920"/>
            <a:ext cx="24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e of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914400" y="6858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ors forcément elle lui a 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"ben, le v'la"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pour s'moque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'ell'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l répond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927000" y="60148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moquer d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joke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914400" y="68580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ors forcément elle lui a 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"ben, le v'la"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pour s'moque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'ell'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l répon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rci, j'fum'pas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927000" y="60148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moquer d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joke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914400" y="6858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ainsi qu'Houpet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914400" y="6858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ainsi qu'Houpet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uva tout son taba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914400" y="6858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ainsi qu'Houpet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uva tout son taba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 petit ân' trott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914400" y="6858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ainsi qu'Houpet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uva tout son taba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 petit ân' trotta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mmena Houpet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914400" y="685800"/>
            <a:ext cx="685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ainsi qu'Houpet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uva tout son taba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 petit ân' trotta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mmena Houpet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h! ah! ah!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14400" y="6858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e chantait la ritournell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'un gar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vait faite pour ell'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925560" y="5722920"/>
            <a:ext cx="240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e of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u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914400" y="6858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914400" y="6858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3:32:15Z</dcterms:created>
  <dc:creator>Angie</dc:creator>
  <dc:description/>
  <dc:language>en-US</dc:language>
  <cp:lastModifiedBy>Angie</cp:lastModifiedBy>
  <dcterms:modified xsi:type="dcterms:W3CDTF">2011-11-01T14:14:25Z</dcterms:modified>
  <cp:revision>5</cp:revision>
  <dc:subject/>
  <dc:title>Houpetta</dc:title>
</cp:coreProperties>
</file>